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bomb.wav" ContentType="audio/x-wav"/>
  <Override PartName="/ppt/media/image7.jpeg" ContentType="image/jpeg"/>
  <Override PartName="/ppt/media/image1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2CB-7A24-4169-AEFE-C934D012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B10-2FC8-486F-9893-C91F925D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3CD-B649-49B9-A720-C8E21A91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1BC-AE90-4B80-A69A-B4ECCA2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34D-D055-4A15-BA37-A9AA8A3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D2C-70CC-4212-82E2-C9951CA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7E6-908E-41F3-89FE-B4768F39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B79-E9BB-474C-AE3F-32992DC6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37A-62DA-49FB-B123-0EE7C72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6A5-BB82-4B88-8CDF-82E3CAE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A90-247D-4747-BC98-A1DC0EB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A73-BD13-4397-9A28-EE155D1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DF5-046A-482F-8321-132F9FD3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28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3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40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00"/>
                </a:solidFill>
                <a:latin typeface="Arial"/>
              </a:rPr>
              <a:t>Efectuează următoarele înmulţiri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Cu u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  <a:ea typeface="Arial"/>
              </a:rPr>
              <a:t>„clic” alegi înmulţirea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382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65 x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3526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138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6232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86 x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57200" y="15238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124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35268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98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429000" y="152388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37 x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381240" cy="320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581280" y="17524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581280" y="2590920"/>
            <a:ext cx="381240" cy="320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581280" y="35812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6172200" y="1523880"/>
            <a:ext cx="2743200" cy="3200400"/>
          </a:xfrm>
          <a:prstGeom prst="rect">
            <a:avLst/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in acest joc recapitulăm înmulţi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e exersează regula de scriere a produsului de la dreapta la stânga 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unităţ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 ze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 sute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5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 rot="2154000">
            <a:off x="1044360" y="2339640"/>
            <a:ext cx="57150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2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5 x 7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6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6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42 + 3 =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45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 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65 x 7 =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59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7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72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3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rId3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3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4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1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12 + 3= 1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0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1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0880" y="4343400"/>
            <a:ext cx="2667240" cy="1905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+ 1 = 5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s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317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138 x 4 = 55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20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9 x 7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>
            <a:hlinkClick r:id="rId5" action="ppaction://hlinksldjump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3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3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9 x 7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9 x 3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>
            <a:hlinkClick r:id="rId4" action="ppaction://hlinksldjump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6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54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54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9 x 3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7 + 6 = 3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notăm           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37 x 9 = 33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665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6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 rot="2154000">
            <a:off x="330120" y="1971720"/>
            <a:ext cx="60199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6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4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6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7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77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6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>
            <a:hlinkClick r:id="rId5" action="ppaction://hlinksldjump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42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89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89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56 + 4 = 6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86 x 7 = 60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010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1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3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12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2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3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3 x 9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>
            <a:hlinkClick r:id="rId4" action="ppaction://hlinksldjump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4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23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23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3 x 9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2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7 + 2 = 2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cc3300"/>
                </a:solidFill>
                <a:latin typeface="Arial"/>
              </a:rPr>
              <a:t>98 x 3 = 29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355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6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 rot="2154000">
            <a:off x="466200" y="2016000"/>
            <a:ext cx="6172200" cy="12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8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2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858000" y="4038480"/>
            <a:ext cx="1828800" cy="198144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440"/>
              <a:gd name="textAreaBottom" fmla="*/ 1863000 h 198144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8394"/>
                </a:moveTo>
                <a:lnTo>
                  <a:pt x="7301" y="8394"/>
                </a:lnTo>
                <a:lnTo>
                  <a:pt x="7301" y="13729"/>
                </a:lnTo>
                <a:cubicBezTo>
                  <a:pt x="7301" y="14652"/>
                  <a:pt x="8102" y="15383"/>
                  <a:pt x="9138" y="15383"/>
                </a:cubicBezTo>
                <a:lnTo>
                  <a:pt x="10800" y="15383"/>
                </a:lnTo>
                <a:cubicBezTo>
                  <a:pt x="11836" y="15383"/>
                  <a:pt x="12636" y="14652"/>
                  <a:pt x="12636" y="13729"/>
                </a:cubicBezTo>
                <a:lnTo>
                  <a:pt x="12636" y="8394"/>
                </a:lnTo>
                <a:lnTo>
                  <a:pt x="10800" y="8394"/>
                </a:lnTo>
                <a:lnTo>
                  <a:pt x="14308" y="4886"/>
                </a:lnTo>
                <a:lnTo>
                  <a:pt x="17981" y="8394"/>
                </a:lnTo>
                <a:lnTo>
                  <a:pt x="16144" y="8394"/>
                </a:lnTo>
                <a:lnTo>
                  <a:pt x="16144" y="13729"/>
                </a:lnTo>
                <a:cubicBezTo>
                  <a:pt x="16144" y="16497"/>
                  <a:pt x="13568" y="19056"/>
                  <a:pt x="10800" y="19056"/>
                </a:cubicBezTo>
                <a:lnTo>
                  <a:pt x="9138" y="19056"/>
                </a:lnTo>
                <a:cubicBezTo>
                  <a:pt x="6370" y="19056"/>
                  <a:pt x="3794" y="16497"/>
                  <a:pt x="3794" y="13729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1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3962520"/>
            <a:ext cx="2743200" cy="236196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+ 2 = 14.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criem la ze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 rot="2154000">
            <a:off x="720360" y="2160360"/>
            <a:ext cx="58658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39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1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3962520"/>
            <a:ext cx="2743200" cy="213336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+ 1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430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 Verifică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" action="ppaction://hlinkshowjump?jump=firstslide"/>
          </p:cNvPr>
          <p:cNvSpPr/>
          <p:nvPr/>
        </p:nvSpPr>
        <p:spPr>
          <a:xfrm>
            <a:off x="838080" y="28954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124 x 6 = 74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09880" y="175248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41440"/>
            <a:ext cx="2209680" cy="2165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516" name="">
            <a:hlinkClick r:id="" action="ppaction://hlinkshowjump?jump=firstslide"/>
          </p:cNvPr>
          <p:cNvSpPr/>
          <p:nvPr/>
        </p:nvSpPr>
        <p:spPr>
          <a:xfrm>
            <a:off x="7543800" y="4495680"/>
            <a:ext cx="990720" cy="175284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752840"/>
              <a:gd name="textAreaBottom" fmla="*/ 1688760 h 1752840"/>
            </a:gdLst>
            <a:ahLst/>
            <a:rect l="textAreaLeft" t="textAreaTop" r="textAreaRight" b="textAreaBottom"/>
            <a:pathLst>
              <a:path w="21600" h="38210">
                <a:moveTo>
                  <a:pt x="0" y="0"/>
                </a:moveTo>
                <a:lnTo>
                  <a:pt x="21600" y="0"/>
                </a:lnTo>
                <a:lnTo>
                  <a:pt x="21600" y="38210"/>
                </a:lnTo>
                <a:lnTo>
                  <a:pt x="0" y="38210"/>
                </a:lnTo>
                <a:close/>
              </a:path>
              <a:path fill="lightenLess" w="21600" h="382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210">
                <a:moveTo>
                  <a:pt x="21600" y="0"/>
                </a:moveTo>
                <a:lnTo>
                  <a:pt x="21600" y="38210"/>
                </a:lnTo>
                <a:lnTo>
                  <a:pt x="20200" y="36810"/>
                </a:lnTo>
                <a:lnTo>
                  <a:pt x="20200" y="1400"/>
                </a:lnTo>
                <a:close/>
              </a:path>
              <a:path fill="darkenLess" w="21600" h="38210">
                <a:moveTo>
                  <a:pt x="21600" y="38210"/>
                </a:moveTo>
                <a:lnTo>
                  <a:pt x="0" y="38210"/>
                </a:lnTo>
                <a:lnTo>
                  <a:pt x="1400" y="36810"/>
                </a:lnTo>
                <a:lnTo>
                  <a:pt x="20200" y="36810"/>
                </a:lnTo>
                <a:close/>
              </a:path>
              <a:path fill="lighten" w="21600" h="38210">
                <a:moveTo>
                  <a:pt x="0" y="382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810"/>
                </a:lnTo>
                <a:close/>
              </a:path>
              <a:path fill="darken" w="21600" h="38210">
                <a:moveTo>
                  <a:pt x="3794" y="15798"/>
                </a:moveTo>
                <a:lnTo>
                  <a:pt x="7301" y="15798"/>
                </a:lnTo>
                <a:lnTo>
                  <a:pt x="7301" y="21133"/>
                </a:lnTo>
                <a:cubicBezTo>
                  <a:pt x="7301" y="22056"/>
                  <a:pt x="8102" y="22787"/>
                  <a:pt x="9138" y="22787"/>
                </a:cubicBezTo>
                <a:lnTo>
                  <a:pt x="10800" y="22787"/>
                </a:lnTo>
                <a:cubicBezTo>
                  <a:pt x="11836" y="22787"/>
                  <a:pt x="12636" y="22056"/>
                  <a:pt x="12636" y="21133"/>
                </a:cubicBezTo>
                <a:lnTo>
                  <a:pt x="12636" y="15798"/>
                </a:lnTo>
                <a:lnTo>
                  <a:pt x="10800" y="15798"/>
                </a:lnTo>
                <a:lnTo>
                  <a:pt x="14308" y="12290"/>
                </a:lnTo>
                <a:lnTo>
                  <a:pt x="17981" y="15798"/>
                </a:lnTo>
                <a:lnTo>
                  <a:pt x="16144" y="15798"/>
                </a:lnTo>
                <a:lnTo>
                  <a:pt x="16144" y="21133"/>
                </a:lnTo>
                <a:cubicBezTo>
                  <a:pt x="16144" y="23901"/>
                  <a:pt x="13568" y="26460"/>
                  <a:pt x="10800" y="26460"/>
                </a:cubicBezTo>
                <a:lnTo>
                  <a:pt x="9138" y="26460"/>
                </a:lnTo>
                <a:cubicBezTo>
                  <a:pt x="6370" y="26460"/>
                  <a:pt x="3794" y="23901"/>
                  <a:pt x="3794" y="21133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3:20:02Z</dcterms:created>
  <dc:creator>*Paulis</dc:creator>
  <dc:description/>
  <dc:language>en-US</dc:language>
  <cp:lastModifiedBy>*</cp:lastModifiedBy>
  <dcterms:modified xsi:type="dcterms:W3CDTF">2007-05-03T20:27:31Z</dcterms:modified>
  <cp:revision>13</cp:revision>
  <dc:subject/>
  <dc:title>Slide 1</dc:title>
</cp:coreProperties>
</file>